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766-55EB-4CE3-8A0B-C955A510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52E-2519-4C8F-880F-1DDB6117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EB9-B89E-4C3C-90C4-6FB14487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335-862A-43D1-8590-9A2E7795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84F-45CE-43CD-B6C9-EBD88B41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1CA-3A25-46CD-9547-F0EB905F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26E-C2A2-40A6-BEF7-7A5E8999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0BE-A9F6-45E7-AB47-B69D9A26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B13-4F1C-4323-B867-CB4A592B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425-544A-4F43-800C-374B010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39E-9E51-4F16-9254-2D4A4B3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19A-A49A-4CBD-9050-94FC7CFE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2B0F-2F96-466A-AC1A-BECDB5F02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6280" y="323640"/>
            <a:ext cx="58291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Times New Roman"/>
              </a:rPr>
              <a:t>Plan de analiză şi acoperire 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o-RO" sz="1200" spc="-1" strike="noStrike">
                <a:solidFill>
                  <a:srgbClr val="000000"/>
                </a:solidFill>
                <a:latin typeface="Times New Roman"/>
              </a:rPr>
              <a:t>riscurilor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XA NR. 8</a:t>
            </a:r>
            <a:br>
              <a:rPr sz="1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ema fluxului informa</a:t>
            </a:r>
            <a:r>
              <a:rPr b="1" lang="ro-RO" sz="1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onal, deci</a:t>
            </a:r>
            <a:r>
              <a:rPr b="1" lang="ro-RO" sz="1400" spc="-1" strike="noStrike">
                <a:solidFill>
                  <a:srgbClr val="000000"/>
                </a:solidFill>
                <a:latin typeface="Times New Roman"/>
              </a:rPr>
              <a:t>z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2280" y="1835280"/>
            <a:ext cx="201600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2280" y="1692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2280" y="1782720"/>
            <a:ext cx="2016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EFECT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JUDEŢ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MITET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JUD. PENTRU SITUAŢII DE URGENŢ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2280" y="2411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1000" y="2411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2411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58800" y="2411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47880" y="2411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6600" y="2411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25680" y="2411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60640" y="1835280"/>
            <a:ext cx="201636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60640" y="1835280"/>
            <a:ext cx="201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SPECTORA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DEŢEAN PENT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I DE URGENŢ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ENTRUL OPERAŢ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3720" y="2484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21000" y="2484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8640" y="2484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95920" y="2484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83200" y="2484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70480" y="2484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7760" y="2484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5000" y="3924360"/>
            <a:ext cx="201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5000" y="392436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IMAR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MITETU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NTRU SITUAŢI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 URGENŢ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6640" y="4284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25360" y="4284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14440" y="4284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03520" y="4284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92240" y="4284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1320" y="4284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70040" y="4284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33720" y="4211640"/>
            <a:ext cx="2016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07160" y="442764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ENTRU OPERAT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5000" y="6084720"/>
            <a:ext cx="215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5000" y="6300720"/>
            <a:ext cx="21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ELULA DE URGENŢ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4640" y="2556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07920" y="2556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04280" y="4572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4640" y="478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16280" y="4643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73360" y="4859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773360" y="5219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73360" y="5580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9360" y="5580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25720" y="5580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02080" y="5580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78440" y="5580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4440" y="5580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013360" y="53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013360" y="493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373720" y="493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373720" y="5292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373720" y="5653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73720" y="6013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373720" y="6373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157720" y="6588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4280" y="6588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92640" y="6588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860640" y="6588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429000" y="6588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97000" y="6588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50080" y="4572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165720" y="4356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165720" y="3995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165720" y="3635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49720" y="3635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589360" y="3635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29000" y="3635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229360" y="3276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797360" y="3276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81360" y="36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221000" y="36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860640" y="36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500280" y="36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139920" y="36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79560" y="36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419200" y="36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8840" y="36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698480" y="36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700280" y="3348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4640" y="2556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/>
          <p:nvPr/>
        </p:nvCxnSpPr>
        <p:spPr>
          <a:xfrm>
            <a:off x="404280" y="298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/>
          <p:nvPr/>
        </p:nvCxnSpPr>
        <p:spPr>
          <a:xfrm>
            <a:off x="404280" y="32763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"/>
          <p:cNvCxnSpPr/>
          <p:nvPr/>
        </p:nvCxnSpPr>
        <p:spPr>
          <a:xfrm>
            <a:off x="404280" y="3564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>
            <a:off x="40428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/>
          <p:nvPr/>
        </p:nvCxnSpPr>
        <p:spPr>
          <a:xfrm>
            <a:off x="404280" y="4138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/>
          <p:nvPr/>
        </p:nvCxnSpPr>
        <p:spPr>
          <a:xfrm>
            <a:off x="404280" y="44258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/>
          <p:nvPr/>
        </p:nvCxnSpPr>
        <p:spPr>
          <a:xfrm>
            <a:off x="404280" y="4787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>
            <a:off x="404280" y="5076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/>
          <p:nvPr/>
        </p:nvCxnSpPr>
        <p:spPr>
          <a:xfrm>
            <a:off x="404280" y="53658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/>
          <p:nvPr/>
        </p:nvCxnSpPr>
        <p:spPr>
          <a:xfrm>
            <a:off x="404280" y="56545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/>
          <p:nvPr/>
        </p:nvCxnSpPr>
        <p:spPr>
          <a:xfrm>
            <a:off x="404280" y="59436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/>
          <p:nvPr/>
        </p:nvCxnSpPr>
        <p:spPr>
          <a:xfrm>
            <a:off x="404280" y="62323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6280" y="6516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852640" y="4642560"/>
            <a:ext cx="7164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97360" y="4642560"/>
            <a:ext cx="7128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4642560"/>
            <a:ext cx="7128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86080" y="4642560"/>
            <a:ext cx="7164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430440" y="4642560"/>
            <a:ext cx="7164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575160" y="4642560"/>
            <a:ext cx="7128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73360" y="2916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73360" y="2916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73360" y="3203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73360" y="3490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73360" y="3778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73360" y="406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73360" y="43527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73360" y="46404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781360" y="2700360"/>
            <a:ext cx="7128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24280" y="2700360"/>
            <a:ext cx="7128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67200" y="2700360"/>
            <a:ext cx="7128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9760" y="2700360"/>
            <a:ext cx="7164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352680" y="2700360"/>
            <a:ext cx="7164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495600" y="2700360"/>
            <a:ext cx="7164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45000" y="2700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13000" y="8604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51:52Z</dcterms:created>
  <dc:creator>adi</dc:creator>
  <dc:description/>
  <dc:language>en-US</dc:language>
  <cp:lastModifiedBy>nicoleta</cp:lastModifiedBy>
  <dcterms:modified xsi:type="dcterms:W3CDTF">2008-04-17T08:33:12Z</dcterms:modified>
  <cp:revision>5</cp:revision>
  <dc:subject/>
  <dc:title>Plan de analiză şi acoperire ariscurilor       ANEXA NR. 8 Schema fluxului informaţional, decizional</dc:title>
</cp:coreProperties>
</file>