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C356-C0A1-418B-8D0D-F01BF5CF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BD94-4E6D-4CC6-9F05-33BF183D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8CA-B1A4-43E5-B7A8-483AE7C0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CD23-C62F-420E-A679-07A2E3E2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774E-6D8F-4E53-AA3F-23E903A3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72F2-055E-44B1-8FA0-21D588AB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542-18C3-4BF7-A514-3DFED98A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31C9-D3D2-4C5D-98BA-6B2A2051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910-D5E3-45FE-A8CE-2CD4246F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BA4B-2256-4843-BA70-9F4676D0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BBE-B9E8-4938-A33E-382B888F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CDD6-96C7-4EFA-A0DC-CD0FC0CF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932B-2098-4628-B176-0785FF4A3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3523320" y="-2702880"/>
            <a:ext cx="216000" cy="645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8240" y="221616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66"/>
                </a:solidFill>
                <a:latin typeface="Impact"/>
              </a:rPr>
              <a:t>MINISTERUL</a:t>
            </a:r>
            <a:r>
              <a:rPr b="1" lang="en-US" sz="2200" spc="-1" strike="noStrike">
                <a:solidFill>
                  <a:srgbClr val="000066"/>
                </a:solidFill>
                <a:latin typeface="Impact"/>
              </a:rPr>
              <a:t>  ECONOMIEI  SI FINANTEL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33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76640" y="46656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60360" y="3813120"/>
            <a:ext cx="4896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66"/>
                </a:solidFill>
                <a:latin typeface="Arial"/>
              </a:rPr>
              <a:t>SCRISOARE CAD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privind contextul macroeconomic, metodologia de elaborare a proiectelor de buget pe anul 20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şi a estimărilor pentru anii 2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-2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2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, precum şi limit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sumelor defalcate din taxa pe valoarea adăugată pentru echilibrarea bugetelor lo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3541320" y="-2863800"/>
            <a:ext cx="179640" cy="645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3555000" y="-2518560"/>
            <a:ext cx="152280" cy="6453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189240" y="907920"/>
            <a:ext cx="871560" cy="1150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46320" y="869796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VOLUMUL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15:41:05Z</dcterms:created>
  <dc:creator>gabi</dc:creator>
  <dc:description/>
  <dc:language>en-US</dc:language>
  <cp:lastModifiedBy>denisa</cp:lastModifiedBy>
  <dcterms:modified xsi:type="dcterms:W3CDTF">2008-08-14T06:30:14Z</dcterms:modified>
  <cp:revision>18</cp:revision>
  <dc:subject/>
  <dc:title>Diapozitivul 1</dc:title>
</cp:coreProperties>
</file>