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2D4-5306-4972-89B9-365BBC8A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5E2-41EF-4F03-AD4D-D392CD1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8E4-5886-42C4-9012-F29BADEF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B4D-1E97-4E93-93FA-BA2A3899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4FF-2FBB-482E-B620-9C656E3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008-3227-49DA-8AB2-A44FC9C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38A-D524-4EDB-960C-26050F60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C64-A2BA-406C-831A-C2F1A361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326-E004-4D4B-9EBA-963CC571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423-BDE6-4331-9A40-B2858CF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9D0-96BD-4970-ACD9-8D814AF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1B2-1B28-4229-9DD5-576E5C1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47B-A262-4C02-B31B-47391B13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523320" y="-2702880"/>
            <a:ext cx="216000" cy="64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8240" y="22161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66"/>
                </a:solidFill>
                <a:latin typeface="Impact"/>
              </a:rPr>
              <a:t>MINISTERUL</a:t>
            </a:r>
            <a:r>
              <a:rPr b="1" lang="en-US" sz="2200" spc="-1" strike="noStrike">
                <a:solidFill>
                  <a:srgbClr val="000066"/>
                </a:solidFill>
                <a:latin typeface="Impact"/>
              </a:rPr>
              <a:t>  ECONOMIEI  SI FINAN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3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6640" y="46656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813120"/>
            <a:ext cx="489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SCRISOARE CAD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ivind contextul macroeconomic, metodologia de elaborare a proiectelor de buget pe anul 2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şi a estimărilor pentru anii 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precum şi lim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melor defalcate din taxa pe valoarea adăugată pentru echilibrarea bugete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541320" y="-2863800"/>
            <a:ext cx="179640" cy="645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555000" y="-2518560"/>
            <a:ext cx="152280" cy="645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89240" y="907920"/>
            <a:ext cx="87156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46320" y="86979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OLUMU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41:05Z</dcterms:created>
  <dc:creator>gabi</dc:creator>
  <dc:description/>
  <dc:language>en-US</dc:language>
  <cp:lastModifiedBy>denisa</cp:lastModifiedBy>
  <dcterms:modified xsi:type="dcterms:W3CDTF">2008-08-14T06:29:15Z</dcterms:modified>
  <cp:revision>17</cp:revision>
  <dc:subject/>
  <dc:title>Diapozitivul 1</dc:title>
</cp:coreProperties>
</file>